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D0A13-106F-404E-B7FA-269EAB97CDC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CITS (Undertakings for Collective Investment in Transferable Securitie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iovannini Reports’ three spheres of difficulties within the post trading secto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echnical requirements and industry practices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taxation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spcAft>
                <a:spcPts val="3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legal certainty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earing and Settlement Advisory and Monitoring Expert Group ("CESAME"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onitoring Group meets its public intere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by supporting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of high quality international standards for auditing, assurance, ethics and education for professional accountant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and by exchanging views relating to international audit quality and to regulatory and market development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ing an impact on auditing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is project is the third step in th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mplification of accounting rules for SMEs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and other companies in the scope of the Fourth and Seventh Company Law Directives (“Accounting Directives”), which began with a fast-track proposal in 200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7EF1-8883-4A95-8570-BA4DB716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E87D-C756-4BFC-83B1-30E02D5A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9D64-14D9-4A68-AFC9-6960A7736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1845-A44E-4FFB-BDDB-7CB704633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19B4A-4974-423C-A649-073589A38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7A22-8E62-4E2D-8FF2-4BAD0B73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8FFE-E0AE-4DDF-841C-09477CB4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F9DC-CFCE-493F-841F-C3FC9876A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107D-C7D8-41A0-846C-574F5DDE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97374-8070-42D2-9CA3-E76F0FF7B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3DD5-2929-49F3-A9C0-395D58E9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2624-3277-4347-84FC-80696BCA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AC997-5CB7-4FCA-A24E-64171F80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8139B-9F50-416C-829A-DE17AC23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F81C-F692-490B-8C06-31F045227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A18B-D20F-48A6-B50C-2C9690E8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71BBE-A9E9-44E9-99E8-32F881AF0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9C2D-381F-4291-9598-603C56316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BAFE-AE38-451B-88DB-FD87BF0D4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D04D-AFDA-423E-9F7A-6B806D1BF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894040" y="259920"/>
            <a:ext cx="5710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0EEC-35D4-4F86-B833-CB906C23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552C-0349-432F-846A-2EB68CE8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E220-FA9F-4337-8F86-64EB9080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59AC-C109-4667-A509-7AD7CB49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3" marL="16002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4" marL="2057400" indent="-228600">
              <a:spcBef>
                <a:spcPts val="624"/>
              </a:spcBef>
              <a:buClr>
                <a:srgbClr val="0066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5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6" marL="2057400" indent="-228600">
              <a:spcBef>
                <a:spcPts val="624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68000" y="6381720"/>
            <a:ext cx="213372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8172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8172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295F-ACFC-47B9-B6EB-560097938AE5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r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www.ebf-fbe.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66c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6692-AC72-4B4B-8EE9-4725CA37A7B7}" type="slidenum">
              <a:rPr b="0" lang="en-US" sz="10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468360" y="1557360"/>
            <a:ext cx="0" cy="53006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1557360"/>
            <a:ext cx="4174920" cy="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5cad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2943360" cy="130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Click to edit the outline text format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cc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2" marL="914400" algn="ctr">
              <a:spcBef>
                <a:spcPts val="400"/>
              </a:spcBef>
              <a:buClr>
                <a:srgbClr val="0066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cc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66cc"/>
              </a:solidFill>
              <a:latin typeface="Times New Roman"/>
            </a:endParaRPr>
          </a:p>
          <a:p>
            <a:pPr lvl="3" marL="1371600" algn="ctr">
              <a:spcBef>
                <a:spcPts val="349"/>
              </a:spcBef>
              <a:buClr>
                <a:srgbClr val="0066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66cc"/>
              </a:solidFill>
              <a:latin typeface="Times New Roman"/>
            </a:endParaRPr>
          </a:p>
          <a:p>
            <a:pPr lvl="4" marL="1828800" algn="ctr">
              <a:spcBef>
                <a:spcPts val="300"/>
              </a:spcBef>
              <a:buClr>
                <a:srgbClr val="0066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5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  <a:p>
            <a:pPr lvl="6" marL="1828800">
              <a:spcBef>
                <a:spcPts val="300"/>
              </a:spcBef>
              <a:buClr>
                <a:srgbClr val="005cad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66cc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Latest developments in the EU legislation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ahoma"/>
                <a:ea typeface="Times New Roman"/>
              </a:rPr>
              <a:t>on financial services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Viktorija Proskurovska, EBF Adviser</a:t>
            </a:r>
            <a:br>
              <a:rPr sz="2500"/>
            </a:b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17th edition</a:t>
            </a:r>
            <a:br>
              <a:rPr sz="2500"/>
            </a:b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onaco, 18 June 2009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(cont-d)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Communication on financial supervision in Europe. Proposed reform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 of Financial Supervisor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 composed of new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upervisory Authorities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,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Creation of a </a:t>
            </a:r>
            <a:r>
              <a:rPr b="1" lang="en-GB" sz="2400" spc="-1" strike="noStrike">
                <a:solidFill>
                  <a:srgbClr val="0066cc"/>
                </a:solidFill>
                <a:latin typeface="Times New Roman"/>
              </a:rPr>
              <a:t>European Systemic Risk Council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invited by 15-Jul-09.</a:t>
            </a:r>
            <a:br>
              <a:rPr sz="28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Legislative proposals are expected in autum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0F81-E58C-400F-93E5-380D59C14A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larification of the UCITS </a:t>
            </a:r>
            <a:br>
              <a:rPr sz="3000"/>
            </a:br>
            <a:r>
              <a:rPr b="1" lang="en" sz="3000" spc="-1" strike="noStrike">
                <a:solidFill>
                  <a:srgbClr val="0066cc"/>
                </a:solidFill>
                <a:latin typeface="Times New Roman"/>
              </a:rPr>
              <a:t>Regulations Regime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initiated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larification of the UCITS regulations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in particula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s regards the liability of depositor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will be launched before the end-Jun-09 to deal with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consistencies in the applic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the UCITS directive across MSs that lead to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nlevel playing fiel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sions of the Directive on Alternative Investment Fund Managers (AIFM) are suggested to be extended to UCI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4216-6E92-4081-A8E2-D64C08CDC8D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U Framework for Managers of Alternative Investment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proposed a Directive on Alternative Investment Fund Managers (AIFM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im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to create a comprehensive &amp; effective  regulatory and supervisory framework for AIFM in the EU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oposed Directive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ill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require all AIFM be subject to</a:t>
            </a:r>
            <a:r>
              <a:rPr b="1" lang="en-GB" sz="22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harmonised regulatory standards;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hance transparency of the activities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enable MSs to improve the macro-prudential oversight;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overcome gaps and inconsistencies in regulatory frameworks at national level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47A-2C82-4C70-9EF7-AD9E5F729A9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1280" y="259920"/>
            <a:ext cx="64087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conclusions of th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mmunication on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clusion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duct information requirements and rules on product sales need to be improved and made more coheren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pose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new, horizontal legislative approach for product disclosures and sales processes for all packaged retail investment product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orks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legislative proposal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; to report by the end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22B9-8277-48B5-9EBB-44B01F18A8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onsultation on Hedge Fund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Ma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finalised a public Consultation on Hedge Fund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Main areas covered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Systemic risks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Market integrity and efficiency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66cc"/>
                </a:solidFill>
                <a:latin typeface="Times New Roman"/>
              </a:rPr>
              <a:t>Risk management;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ransparency towards investors and investor protect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&amp;27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organised a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High-Level Conference on Private Equity and Hedge Funds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s a final step of the consultation proces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5AB0-B82A-4871-BD03-F2716D309E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Times New Roman"/>
              </a:rPr>
              <a:t>Investor Compensation Schemes Directive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 call for evidence on the review of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pplication of the Investor Compensation Schemes Directive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call addressed, </a:t>
            </a:r>
            <a:r>
              <a:rPr b="0" i="1" lang="en-US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Scope of the directive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Times New Roman"/>
              </a:rPr>
              <a:t>amount of compensation and </a:t>
            </a: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funding of the compensation schem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echnical aspects hampering efficient &amp; timely functioning of the scheme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reatment of money market fund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8-Apr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716C-D3AF-4CF9-9F80-CD404AE7235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tail Market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Exercis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questionnaire aiming to monitor the EU Retail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It will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lle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ative inform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bout problems arising from current national regulatory conditions that apply to retail services across the MSs, and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fficiency of these rul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meeting their underlying public interest obj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esponses invited by 5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The questionnaire will feed in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tail Market Monitoring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o be published before Nov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EDF1-D3F6-49B4-9814-B19F02243BC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ccess to a Basic Bank Account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public Consult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inancial inclusion: Ensuring access to a basic bank accoun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sultative document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escribes the levels, causes and consequences of financial exclusion in the EU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esents various policy solutions to address financial exclusion that exist in some MS,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9480" indent="0">
              <a:spcBef>
                <a:spcPts val="649"/>
              </a:spcBef>
              <a:spcAft>
                <a:spcPts val="6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Consultation closed on </a:t>
            </a:r>
            <a:r>
              <a:rPr b="0" lang="en-US" sz="2600" spc="-1" strike="noStrike">
                <a:solidFill>
                  <a:srgbClr val="0066cc"/>
                </a:solidFill>
                <a:latin typeface="Times New Roman"/>
              </a:rPr>
              <a:t>6-Apr-09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9B95-B88F-4F67-B0EE-9864397E6FE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lternative Dispute Resolution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on Alternative Dispute Resolution (ADR) in the area of financial servic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objectiv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as to seek views on how ADR schemes in the area of financial services, providing consumers with individual redress, could be further improved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27-Feb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3C0-3ABB-4DB8-BA2C-5531C899E22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f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‘Non-Credit' Institutions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publis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tudy that shows varying national approach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gulation of 'non-credit' institutions in mortgage marke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shows that in the majority of MS, lenders operating outside the EU legal framework for credit institutions are regulated and supervised b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national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uthorities, and that their national market share is small compared with that of fully-fledged credit institu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mments on the study were invited by 28-Feb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1B98-1726-4D3C-BD4D-B7893B73A2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38 Recent Development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Services and Retail Banking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20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Financial Markets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-  11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ccounting and Audit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-    7 -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88A2-708C-4301-AD4B-654F97C42EB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New Industry Rules on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 Account Switch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elcomed the European Banking Industry Committee's adoption of a set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Common Principles for Bank Account Switch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clarify the roles of the ‘new’ bank and the ‘old’ bank in situation when consumer wishes to change ban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Principles will apply in each MS as of 1-Nov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72C9-AC64-4B5F-B521-EF707DCBDF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Markets 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11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2518-4A76-46F2-B178-842A550A1B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Directors' Remuner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a Recommendation on the regime for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 director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of listed compani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new Recommendation completes the previous ones by specifying certain aspect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structure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irectors’ remuneration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process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of determining directors’ remuneration, including shareholder 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re-examine the recommendations in one year’s tim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E8C0-E027-434C-BD49-08FA2820D7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339640" y="259920"/>
            <a:ext cx="655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muneration of Risk-Taking Staf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Financial Institution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adopted a Recommendation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muneration o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isk-taking staff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financial services secto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t focuses on four areas of remuneration policy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tructure of pay (link back to risk-management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overnance (internal transparency, clarity, documented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disclosure (to stakeholders)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Supervision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Legislative proposals will follow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ringing remuneration schemes within the scope of prudential oversight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52EC-5131-4C97-8006-BF168964D7D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Foundation Statut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blic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difficult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foundations face when operating cross-border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Should the outcome be in favour of European Foundation Statue, the aim would be to use a single legal form instead of up to 27 national ones.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uropean Foundation would be parallel to the national legal forms and its use would be optional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5-May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282F-2E76-4CD2-A0F0-3B64C2234E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gulation on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edit Rating Agenc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3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nd Council approved the proposal on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posed Regulation on Credit Rating Agencies (CRA’s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RA’s will be expected to comply with strict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standards of integr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ansparenc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will be subject to ongoing supervision of the Committee of European Securities Regulato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gulation proposes a set of 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rigorous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 rul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and an effective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surveillance regime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hereby regulators will supervise credit rating agencies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2C91-15EE-4B9E-A285-F7BE8A4AFA9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Market Abuse Directive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all for evidence on its review of the application of the Market Abuse Directive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as reviewing certain element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cope of the markets and financial instrume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ability of listed issuers to delay disclosure of inside information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Disclosure of inside information by issuers of commodity derivative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0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002-AFE1-4B1A-91E8-E0B1B43E532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New Legal Framework for Intermediated Secur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armonisation of the legal framework for securities holding and transacti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y the end of 2009, EC intends to introduce a legislative proposal to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ncrease legal certainty &amp; efficiency of securities hol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improve protection of investors' rights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Consultation closed on 11-Jun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8670-4C89-4A3C-991E-F37D1AB67F6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ation of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ecurities Law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6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consultation on </a:t>
            </a: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harmonisation of Securities Law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, with relation to the thre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iovannini barrier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ddressed questions,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inter al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ere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holding and disposition of securities held in securities accounts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ercise of investor's rights flowing from securities through a "chain" of intermediaries, in particular in cross-border situations;</a:t>
            </a:r>
            <a:r>
              <a:rPr b="0" lang="ru-RU" sz="24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11-Jun-09. The EC will make a legislative proposal by the end-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CC2C-8B8A-45DE-9B86-B223F9CB2EE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Harmonised Solutions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Cross-Border Barriers</a:t>
            </a:r>
            <a:r>
              <a:rPr b="0" lang="ru-RU" sz="26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’s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ing and Settlement Advisory and Monitoring Expert Group issued a report on removing industry-related barriers to the cross-border clearing and settlement of securities transaction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report gives an overview of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work by the industry to dismantle the six industry-related "Giovannini Barriers" to post-trading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the state of play on 9 such Barriers attributed to the public sector;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other pertinent topics related to post-trading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7D72-A803-4CF7-B371-84C370B9F20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Financial Services and </a:t>
            </a:r>
            <a:br>
              <a:rPr sz="3800"/>
            </a:b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Retail Bank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20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1911-860A-4263-BA92-E3CAF5BABD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State Aid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rovided guidance on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reatment of asset relief measures by M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guidance provides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ethodologies of valuation of the impaired asset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necessary remuneration of the State for the asset relief and the procedural steps that will be followed;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 criteria that will be used to evaluate the State aid given to the bank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C659-E028-4FF1-B803-4042E04DE3A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entral Counterparty Clearing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ternational Swaps and Derivatives Association and the European Banking Federation have committed to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e of Central Counterparty Clearing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(CCP)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for Credit Default Swap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CDS) in the European Union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signatories committed to cooperating with all relevant bodies in the financial industry to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establish the EU-based central clearin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eligible EU contrac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by end-Jul-09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60F7-EDA3-4BBF-9B83-19F607CE7D5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uropean Action Plan 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-Signatures and e-Identification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dopted the Action Plan on e-signatures and e-identification to facilitate the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vision of cross-border public servic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the Single Marke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Reason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for the Action Plan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Public authorities offer increasingly more e-services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Their implementation is national-oriented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t creates e-problems for the EU Single Market,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MSs run the risk of not complying with Services Directive and the Public Procurement Directiv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D24C-F395-4620-9F04-FE9B47C0DA9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Accounting and Auditing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US" sz="3800" spc="-1" strike="noStrike">
                <a:solidFill>
                  <a:srgbClr val="808080"/>
                </a:solidFill>
                <a:latin typeface="Times New Roman"/>
              </a:rPr>
              <a:t>- 7 items -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C693-C5A8-4C87-A945-72F7FA76833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onitoring Group adopt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a Charter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onitoring Group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 group of international regulatory bodies and related organisations committed to advancing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public interest in areas related to international audit quality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announces the adoption of a formal Charter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harter confirms the formal arrangements agreed upon by participating members and observers to meet their objective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41C6-406A-497E-A808-8239F6462C0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International Auditing Conference with Third Countri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9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hosted a high-level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Auditing Conference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n Brussels on 10-Dec-08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focused o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how to enhance international cooperat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nd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romote auditing public oversight systems in third countr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3257-FB79-4B7A-B276-A86376BEE3C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Standards Advice Review Group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appointed three new members of the Standards Advice Review Group (SARG)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SARG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ask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is to advise EC on the endorsement process of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Standards (IFRS), and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International Financial Reporting Committee Interpretations (IFRICs).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DD4A-AA5E-4A0A-8DD6-48CB40467E1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inancial Reporting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in a Changing World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&amp;8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osted a Conference on </a:t>
            </a:r>
            <a:r>
              <a:rPr b="0" i="1" lang="en-GB" sz="2800" spc="-1" strike="noStrike">
                <a:solidFill>
                  <a:srgbClr val="0066cc"/>
                </a:solidFill>
                <a:latin typeface="Times New Roman"/>
              </a:rPr>
              <a:t>Financial Reporting in a Changing World,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in Brussel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conference addressed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policy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in financial report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accounting issues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raised by the financial crisis: pro-cyclicality of financial statements and possible remedies, i.e. dynamic provisioning; 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spcBef>
                <a:spcPts val="649"/>
              </a:spcBef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possible issues for the </a:t>
            </a:r>
            <a:r>
              <a:rPr b="1" lang="en-GB" sz="2600" spc="-1" strike="noStrike">
                <a:solidFill>
                  <a:srgbClr val="0066cc"/>
                </a:solidFill>
                <a:latin typeface="Times New Roman"/>
              </a:rPr>
              <a:t>future direction</a:t>
            </a:r>
            <a:r>
              <a:rPr b="0" lang="en-GB" sz="2600" spc="-1" strike="noStrike">
                <a:solidFill>
                  <a:srgbClr val="0066cc"/>
                </a:solidFill>
                <a:latin typeface="Times New Roman"/>
              </a:rPr>
              <a:t> of financial reporting (broader debate on corporate governance).</a:t>
            </a:r>
            <a:endParaRPr b="0" lang="en-US" sz="26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D047-B6F1-40B4-8353-7D3F2DA8035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Review of the 4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and 7</a:t>
            </a:r>
            <a:r>
              <a:rPr b="1" lang="en-GB" sz="3000" spc="-1" strike="noStrike" baseline="30000">
                <a:solidFill>
                  <a:srgbClr val="0066cc"/>
                </a:solidFill>
                <a:latin typeface="Times New Roman"/>
              </a:rPr>
              <a:t>th</a:t>
            </a: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 Company Law Directiv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Review of the Fourth and Seventh Company Law Directiv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aims at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aising issues relating to the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modernisation and simplification of the Accounting Directive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increasing the clarity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of the text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lawmakers and users in general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d on 30-Apr-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5668-319E-4A4C-80DE-2301F4AEE15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Equivalence in relation to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Third Country GAAP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2-Dec-08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adopted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easures granting equivalence to the Generally Accepted Accounting Principles (GAAPs) of certain third countries as from January of 20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AAPs of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US, Japan, China, Canada, South Korea and India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are found to be equivalent to International Financial Reporting Standards (IFRS) as adopted by the EU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4284-A479-463F-8DF0-BADABF2546A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cc"/>
                </a:solidFill>
                <a:latin typeface="Times New Roman"/>
              </a:rPr>
              <a:t>Consultation on Possible End-Date for SEPA Migration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66cc"/>
                </a:solidFill>
                <a:uFillTx/>
                <a:latin typeface="Times New Roman"/>
              </a:rPr>
              <a:t>8-Jun-09</a:t>
            </a:r>
            <a:r>
              <a:rPr b="0" lang="en-GB" sz="3200" spc="-1" strike="noStrike">
                <a:solidFill>
                  <a:srgbClr val="0066cc"/>
                </a:solidFill>
                <a:latin typeface="Times New Roman"/>
              </a:rPr>
              <a:t>: 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launched a Consultation on possible deadlines for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gration of existing payment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i.e. credit transfers and direct debits)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to the new SEPA product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lear deadlines for migration signify that SEPA migration is an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rreversible proces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thus helping to incentivise both industry and users to speed up migra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Feedback from stakeholders invited by 3-Aug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44B1-5722-4A08-B6F1-5568931CF2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Burden Reduction </a:t>
            </a:r>
            <a:br>
              <a:rPr sz="3000"/>
            </a:br>
            <a:r>
              <a:rPr b="1" lang="en-GB" sz="3000" spc="-1" strike="noStrike">
                <a:solidFill>
                  <a:srgbClr val="0066cc"/>
                </a:solidFill>
                <a:latin typeface="Times New Roman"/>
              </a:rPr>
              <a:t>for Micro Entities</a:t>
            </a:r>
            <a:r>
              <a:rPr b="0" lang="ru-RU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6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put forward a new proposal allowing MSs to completely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abolish financial reporting obligations for the EU's smallest companies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ggregate administrative burden reduction potential is estimated at around € 6.3 bill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Micro entities fulfil two out of the three following criteria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balance sheet total of EUR 500.000,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net turnover of EUR 1.000.000 and 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spcAft>
                <a:spcPts val="550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66cc"/>
                </a:solidFill>
                <a:latin typeface="Times New Roman"/>
              </a:rPr>
              <a:t>an average number of employees during the financial year of 10.</a:t>
            </a:r>
            <a:endParaRPr b="0" lang="en-US" sz="22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5620-1C54-4EE9-84F9-085D6727D72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spcAft>
                <a:spcPts val="5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5cad"/>
                </a:solidFill>
                <a:latin typeface="Times New Roman"/>
              </a:rPr>
              <a:t>Thank you for your attention!</a:t>
            </a:r>
            <a:endParaRPr b="0" lang="en-US" sz="3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88FF-CACB-4EB8-89CE-618E3210D6D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-money and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Cross-Border Payments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Times New Roman"/>
              </a:rPr>
              <a:t>24-Apr-09</a:t>
            </a: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P adopted 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wo legislative proposals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urrent rules govern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cross-border payments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: the Regulation will apply as of 1-Nov-09, the final deadline for the transposition of the Payment Services Directive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the conditions for issuing </a:t>
            </a:r>
            <a:r>
              <a:rPr b="1" lang="en-GB" sz="2700" spc="-1" strike="noStrike">
                <a:solidFill>
                  <a:srgbClr val="0066cc"/>
                </a:solidFill>
                <a:latin typeface="Times New Roman"/>
              </a:rPr>
              <a:t>electronic money</a:t>
            </a:r>
            <a:r>
              <a:rPr b="0" lang="en-GB" sz="2700" spc="-1" strike="noStrike">
                <a:solidFill>
                  <a:srgbClr val="0066cc"/>
                </a:solidFill>
                <a:latin typeface="Times New Roman"/>
              </a:rPr>
              <a:t> in the EU: Directive to be transposed by 2011 at the latest.</a:t>
            </a:r>
            <a:endParaRPr b="0" lang="en-US" sz="27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Both legal texts will now be forwarded to the EU Council for final adoption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F694-1E42-43A8-8CBB-F264519C03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Payment Systems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Market Expert Group (PSMEG)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set up a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PSMEG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 (of 50 members) to assist in the preparation of policy in the field of payments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Group’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mission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assist the Commission in the preparation of legislative acts or policy initiatives on payment system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provide insight on the practical implementation of these policies;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xchange views on the latest best practices; and 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cc"/>
                </a:solidFill>
                <a:latin typeface="Times New Roman"/>
              </a:rPr>
              <a:t>ensure monitoring of potential issues of concern to the market.</a:t>
            </a:r>
            <a:endParaRPr b="0" lang="en-US" sz="24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45E7-0B17-4E25-98F7-02F830657B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Removing Barriers to </a:t>
            </a:r>
            <a:br>
              <a:rPr sz="3000"/>
            </a:b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Electronic Invoicing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xpert Group on Electronic Invoicing published its </a:t>
            </a:r>
            <a:r>
              <a:rPr b="1" lang="en-GB" sz="2800" spc="-1" strike="noStrike">
                <a:solidFill>
                  <a:srgbClr val="0066cc"/>
                </a:solidFill>
                <a:latin typeface="Times New Roman"/>
              </a:rPr>
              <a:t>interim report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, which sets out a vision for a European Electronic Invoicing (EEI) Framework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port outlines a number of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barriers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to e-invoicing, the electronic transfer of billing and payment information between supplier and buyer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Group plans to draft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code of practice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 for the guidance of trading parties, their service providers and tax authorities and to develop a </a:t>
            </a:r>
            <a:r>
              <a:rPr b="1" lang="en-GB" sz="2500" spc="-1" strike="noStrike">
                <a:solidFill>
                  <a:srgbClr val="0066cc"/>
                </a:solidFill>
                <a:latin typeface="Times New Roman"/>
              </a:rPr>
              <a:t>network model 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which supports interoperability, choice of services, and European reach for the exchange of invoice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0157-E457-4A6C-8F74-EC3B61058B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Deposit Guarantee Schemes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9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reviewing the Directive on Deposit Guarantee Schemes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Clr>
                <a:srgbClr val="00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The aim is to: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ensure greater effectiveness of the Directive, 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Clr>
                <a:srgbClr val="0066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respond adequately to any deficiencies or risks as evidenced in the current financial crisis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closes on 27-Jul-09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will submit a report, and if appropriate, legislative proposals by the end of 2009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FDA-1937-4BF9-979B-4786496EF3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894040" y="259920"/>
            <a:ext cx="5710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cc"/>
                </a:solidFill>
                <a:latin typeface="Times New Roman"/>
              </a:rPr>
              <a:t>Financial Supervision in Europe</a:t>
            </a:r>
            <a:r>
              <a:rPr b="0" lang="en-US" sz="3000" spc="-1" strike="noStrike">
                <a:solidFill>
                  <a:srgbClr val="0066cc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25-Feb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High-Level group on Supervision in the EU published the De Larosière report.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10-Apr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US" sz="2800" spc="-1" strike="noStrike">
                <a:solidFill>
                  <a:srgbClr val="0066cc"/>
                </a:solidFill>
                <a:latin typeface="Times New Roman"/>
              </a:rPr>
              <a:t>EC launched a </a:t>
            </a: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Consultation on the improvement of supervision for the financial services sector</a:t>
            </a:r>
            <a:r>
              <a:rPr b="0" lang="en-GB" sz="2500" spc="-1" strike="noStrike">
                <a:solidFill>
                  <a:srgbClr val="0066cc"/>
                </a:solidFill>
                <a:latin typeface="Times New Roman"/>
              </a:rPr>
              <a:t>.</a:t>
            </a:r>
            <a:endParaRPr b="0" lang="en-US" sz="2500" spc="-1" strike="noStrike">
              <a:solidFill>
                <a:srgbClr val="0066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cc"/>
                </a:solidFill>
                <a:uFillTx/>
                <a:latin typeface="Times New Roman"/>
              </a:rPr>
              <a:t>7-May-09</a:t>
            </a:r>
            <a:r>
              <a:rPr b="0" lang="en-US" sz="3200" spc="-1" strike="noStrike">
                <a:solidFill>
                  <a:srgbClr val="0066cc"/>
                </a:solidFill>
                <a:latin typeface="Times New Roman"/>
              </a:rPr>
              <a:t>:</a:t>
            </a:r>
            <a:br>
              <a:rPr sz="3200"/>
            </a:br>
            <a:r>
              <a:rPr b="0" lang="en-GB" sz="2800" spc="-1" strike="noStrike">
                <a:solidFill>
                  <a:srgbClr val="0066cc"/>
                </a:solidFill>
                <a:latin typeface="Times New Roman"/>
              </a:rPr>
              <a:t>EC held a High Level Conference “Towards a new supervisory architecture in Europe”. </a:t>
            </a:r>
            <a:endParaRPr b="0" lang="en-US" sz="2800" spc="-1" strike="noStrike">
              <a:solidFill>
                <a:srgbClr val="0066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3183-EB74-4457-876F-DAC08B90A1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4:54:20Z</dcterms:created>
  <dc:creator>proskurovska</dc:creator>
  <dc:description/>
  <dc:language>en-US</dc:language>
  <cp:lastModifiedBy>proskurovska</cp:lastModifiedBy>
  <dcterms:modified xsi:type="dcterms:W3CDTF">2009-06-17T10:00:09Z</dcterms:modified>
  <cp:revision>163</cp:revision>
  <dc:subject/>
  <dc:title>Latest developments in the EU legislation on financial services</dc:title>
</cp:coreProperties>
</file>